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Орищенко ЕИ" initials="ОЕ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4-16T13:28:04.30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0A3-4D3C-42BB-98EA-FCF5E804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2A2-9B0C-4B14-82F1-1C4CC05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B36-D64B-4E69-B927-1B48A3E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513-BF73-4D47-9D87-613F07CE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992-3F6E-459D-BE90-BCCF9AFA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286E-CCF3-438A-B2B0-4835C8D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64B1-46EF-4F6C-84F0-CF315C3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D107-9F37-4758-9E6D-583A405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A8AF-725E-4C43-BB4F-B258B47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9C03-389F-4E24-80F3-427D8ED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0A2-C8B7-4B48-94FA-38018C9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9BC-E53A-4AF8-B571-6AC1CCA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04F7-C57D-46E0-8D66-60DBE52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802-6D21-46DD-96D2-6C7BB515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1214-275F-4D53-AC4F-D9E6C54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D0DB-B2FD-490F-AD29-9E07FC2D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E56-F63F-4799-A9F4-DB8D07EA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3B2-5207-4F96-8F2A-054EABF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B3A-4DE3-4CF5-BDFA-DBD0ADC4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FB5-98D4-4DB9-81FE-D41857F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08B-6C34-492E-94D9-25E83AA3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ADF-499F-40F2-8B19-838FBCB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E63-2F29-48CB-8696-B616091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E57-B5C3-4FE2-83CD-59340CE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0720"/>
                <a:ext cx="1833120" cy="1668960"/>
                <a:chOff x="852840" y="4050720"/>
                <a:chExt cx="1833120" cy="166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5120" y="3933720"/>
                  <a:ext cx="477360" cy="12459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5960"/>
                    <a:gd name="textAreaBottom" fmla="*/ 1246320 h 12459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7360" y="4979520"/>
                  <a:ext cx="110520" cy="51084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840"/>
                    <a:gd name="textAreaBottom" fmla="*/ 511200 h 5108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4ABE-4300-4EC7-8F42-9E29F39EEB6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1440" y="58320"/>
              <a:ext cx="3628440" cy="6141240"/>
              <a:chOff x="5401440" y="58320"/>
              <a:chExt cx="362844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4760" y="343080"/>
                <a:ext cx="2112480" cy="235548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62000"/>
                <a:ext cx="905040" cy="842400"/>
              </a:xfrm>
              <a:custGeom>
                <a:avLst/>
                <a:gdLst>
                  <a:gd name="textAreaLeft" fmla="*/ 0 w 905040"/>
                  <a:gd name="textAreaRight" fmla="*/ 905400 w 9050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8588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14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3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1720" y="2939040"/>
                <a:ext cx="522720" cy="32666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3160"/>
              <a:ext cx="1690560" cy="1146600"/>
              <a:chOff x="375840" y="44316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16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868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08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8640" y="3712320"/>
              <a:ext cx="1156320" cy="1607760"/>
              <a:chOff x="738864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33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408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700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C553-35E2-4F72-BF94-18F4719642C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Презентация к внеклассному мероприятию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ИГРА-ПУТЕШЕСТВИЕ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«ТРОПИНКАМИ ЗДОРОВЬЯ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Meiryo UI"/>
                <a:ea typeface="Meiryo UI"/>
              </a:rPr>
              <a:t>подготовил учитель начальных классов МКОУ Копанская ООШ Россошанского муниципального района Воронежской области Орищенко Елена Иванов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previewCAQ3P6TP.jpg"/>
          <p:cNvPicPr/>
          <p:nvPr/>
        </p:nvPicPr>
        <p:blipFill>
          <a:blip r:embed="rId1"/>
          <a:stretch/>
        </p:blipFill>
        <p:spPr>
          <a:xfrm>
            <a:off x="1619280" y="1052640"/>
            <a:ext cx="597708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9"/>
          <p:cNvSpPr/>
          <p:nvPr/>
        </p:nvSpPr>
        <p:spPr>
          <a:xfrm>
            <a:off x="1714680" y="285840"/>
            <a:ext cx="6286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ЧЁ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197000"/>
            <a:ext cx="72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39640" y="530280"/>
            <a:ext cx="784872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сильного шум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ветр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ковырять в уша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сморкаться сильн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допускать попадания воды в уш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Если уши заболели, обратиться к врач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авильно чистить уши: намыленным пальцем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Мыть уши каждый ден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Каждое утро разминать ушную раковин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AATW2SWCAUW84FTCAE5FUYBCAJYB6W9CAWG42I7CAIWFYM4CALEJLT3CA02M164CAB30LOCCAIXAGYICABLZLUDCA1V5QDNCAC3X7ZFCAK8VFG4CADZTAYGCAK2E62BCA0KATZ2CA6COYCUCA5N6ZEQCAQB0C44.jpg"/>
          <p:cNvPicPr/>
          <p:nvPr/>
        </p:nvPicPr>
        <p:blipFill>
          <a:blip r:embed="rId1"/>
          <a:stretch/>
        </p:blipFill>
        <p:spPr>
          <a:xfrm>
            <a:off x="2214720" y="714240"/>
            <a:ext cx="5000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всегда готов жизнь прожить без докторов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971640" y="1557360"/>
            <a:ext cx="76327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не хочет быть здоровым, бодрым стройным и весёлы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620280"/>
            <a:ext cx="82440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1116000" y="3068640"/>
            <a:ext cx="69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63640" y="126432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мороза не боится, на коньках летит, как птиц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6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Ну а кто начнет обед жвачкой с парою конфет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042920" y="973080"/>
            <a:ext cx="720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же любит помидоры, фрукты, овощи, лимоны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Comic Sans MS"/>
              </a:rPr>
              <a:t>В гости к леснику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10" descr="C:\Users\Орищенко ЕИ\Pictures\DSCF1267.jpg"/>
          <p:cNvPicPr/>
          <p:nvPr/>
        </p:nvPicPr>
        <p:blipFill>
          <a:blip r:embed="rId1"/>
          <a:stretch/>
        </p:blipFill>
        <p:spPr>
          <a:xfrm>
            <a:off x="1692360" y="2457360"/>
            <a:ext cx="5759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003640" y="5734080"/>
            <a:ext cx="338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1280" y="59500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5435640" y="5373720"/>
            <a:ext cx="2665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971640" y="1196640"/>
            <a:ext cx="72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поел и чистит зубки регулярно дважды в сутк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"/>
          <p:cNvSpPr/>
          <p:nvPr/>
        </p:nvSpPr>
        <p:spPr>
          <a:xfrm>
            <a:off x="5003640" y="5445000"/>
            <a:ext cx="316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12272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из вас, из малышей, ходит грязный до уше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5"/>
          <p:cNvSpPr/>
          <p:nvPr/>
        </p:nvSpPr>
        <p:spPr>
          <a:xfrm>
            <a:off x="5076720" y="5805360"/>
            <a:ext cx="359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116000" y="8334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согласно распорядку выполняет физзарядк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3"/>
          <p:cNvSpPr/>
          <p:nvPr/>
        </p:nvSpPr>
        <p:spPr>
          <a:xfrm>
            <a:off x="5003640" y="5661000"/>
            <a:ext cx="288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13827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, хочу у вас узнать, любит петь и отдыхат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точ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http://images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http://viki.rdf.r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http://fotki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http://plant.geoman.ru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http://forest.geoman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акрой глаза и прислушайся к окружающим тебя звук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природа"/>
          <p:cNvPicPr/>
          <p:nvPr/>
        </p:nvPicPr>
        <p:blipFill>
          <a:blip r:embed="rId1"/>
          <a:stretch/>
        </p:blipFill>
        <p:spPr>
          <a:xfrm>
            <a:off x="971640" y="242100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C:\Users\Орищенко ЕИ\Pictures\0006-005-Belka.jpg"/>
          <p:cNvPicPr/>
          <p:nvPr/>
        </p:nvPicPr>
        <p:blipFill>
          <a:blip r:embed="rId1"/>
          <a:stretch/>
        </p:blipFill>
        <p:spPr>
          <a:xfrm>
            <a:off x="1714680" y="1844640"/>
            <a:ext cx="5715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ЗАЙ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8" descr="C:\Users\Орищенко ЕИ\Pictures\0003-002-Zajats.jpg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05920" cy="60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регите нос от ушибов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овыряйте в носу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суйте в нос посторонние       предмет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Закаляйтесь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Берегите органы от простуд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урит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УЛИ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6" descr="C:\Users\Орищенко ЕИ\Pictures\ulitka06.jpg"/>
          <p:cNvPicPr/>
          <p:nvPr/>
        </p:nvPicPr>
        <p:blipFill>
          <a:blip r:embed="rId1"/>
          <a:stretch/>
        </p:blipFill>
        <p:spPr>
          <a:xfrm>
            <a:off x="1979640" y="2286000"/>
            <a:ext cx="4896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Verdana"/>
              </a:rPr>
              <a:t>Вредно или полезно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леж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на яркий свет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близко телевизор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ерегать глаз от ударов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мывать по утрам глаз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реть глаза грязными руками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при хорошем освещении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68360" y="381240"/>
            <a:ext cx="81360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мываться по утра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мотреть телевизор не более 1-1,5 часов вдень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идеть не ближе 3 м от телевизо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леж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в транспорте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Оберегать глаза от попаданий в них инородных предмет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и чтении и письме свет должен освещать страницу слев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Расстояние от глаз до текста рекомендуется 30-35 с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потреблять в пищу достаточное). количество растительных продуктов (морковь, лук, петрушку, помидоры, сладкий красный перец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10.</a:t>
            </a: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DejaVu Sans"/>
              </a:rPr>
              <a:t>Делать гимнастику для глаз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42:35Z</dcterms:created>
  <dc:creator>***$USER$***</dc:creator>
  <dc:description/>
  <dc:language>en-US</dc:language>
  <cp:lastModifiedBy>Орищенко ЕИ</cp:lastModifiedBy>
  <dcterms:modified xsi:type="dcterms:W3CDTF">2014-01-24T08:13:48Z</dcterms:modified>
  <cp:revision>41</cp:revision>
  <dc:subject/>
  <dc:title>В гости к Смешарикам</dc:title>
</cp:coreProperties>
</file>